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6.jpeg" ContentType="image/jpeg"/>
  <Override PartName="/ppt/media/image24.jpeg" ContentType="image/jpeg"/>
  <Override PartName="/ppt/media/image28.jpeg" ContentType="image/jpeg"/>
  <Override PartName="/ppt/media/image20.png" ContentType="image/png"/>
  <Override PartName="/ppt/media/image7.jpeg" ContentType="image/jpeg"/>
  <Override PartName="/ppt/media/image19.jpeg" ContentType="image/jpeg"/>
  <Override PartName="/ppt/media/image11.png" ContentType="image/png"/>
  <Override PartName="/ppt/media/image6.png" ContentType="image/png"/>
  <Override PartName="/ppt/media/image12.jpeg" ContentType="image/jpeg"/>
  <Override PartName="/ppt/media/image8.png" ContentType="image/png"/>
  <Override PartName="/ppt/media/image14.jpeg" ContentType="image/jpeg"/>
  <Override PartName="/ppt/media/image13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.png" ContentType="image/png"/>
  <Override PartName="/ppt/media/image17.jpeg" ContentType="image/jpeg"/>
  <Override PartName="/ppt/media/image5.png" ContentType="image/png"/>
  <Override PartName="/ppt/media/image29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15.jpeg" ContentType="image/jpeg"/>
  <Override PartName="/ppt/media/image16.jpeg" ContentType="image/jpeg"/>
  <Override PartName="/ppt/media/image18.jpeg" ContentType="image/jpeg"/>
  <Override PartName="/ppt/media/image21.jpeg" ContentType="image/jpeg"/>
  <Override PartName="/ppt/media/image2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94BC-DC52-4D98-ACAE-F6D91DF4F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6E22-1730-4CF5-B89C-9B4452586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15DB-D0F9-4B39-85B1-CA636B476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6F9A-8720-4441-A6BA-59C9AF7CB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306CA-9A7B-4C45-BB65-31CB9E543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C9ED3-2580-4A9A-AA0D-24F5D777C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ACD0C-CDB5-4F64-85BA-D9EA348C4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4D0C0-B37D-4084-B8ED-14278DE36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2DC0B-D0E5-46B8-ACF4-4890DA667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7B456-B7DE-4F40-9697-9295E1B62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D9700-EDEF-4E58-9DEC-3F2857DAB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3D73-A224-4602-9BF4-D46C1E7D5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94C54-BC37-4FC8-8395-C3925D00C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3C26F-F690-4B13-88A5-FCDC226D2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2FF10-5CB6-425F-AD73-974B3EF66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EA7CF-BA05-46E0-8AF0-04BA6C007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14983-5B7A-49E9-AB83-60E6F73CA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8A746D-82DF-4E18-A36B-A36825586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00EC81-E718-478E-9E86-3589E13EB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9E6EC1-C2C1-43AF-8F43-7C1D165D5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CCB149-62F9-4FCE-A53A-5189E5EE7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79110D-F529-4619-A0A8-E00E9E1D7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DDD6-698B-4EBB-A950-B027AEFC6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6EBA88-75CC-4AD3-B1C8-D039C7FDC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32C0DD-DD3F-4BBF-B2E4-A8C59490A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B3E9E4-114B-4354-9767-0588B838C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023F8D-D48D-40FD-B303-967AD9341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C65E37-6B2F-482A-9702-58A27B57A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D77A04-B1DF-4593-9A59-162FF6C73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4F8859-AB94-4523-987D-8B6BF1898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E78918-11A3-4D29-B7BA-635C1DA85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70031D-0694-4345-9581-9ECA37884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FB92DF-958B-4287-8A10-171A9D79A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4A88-19BB-41EE-98BB-7B532BEEE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9B587E-BB33-4112-BE55-7420FE5A7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1B8906-B69C-4307-913E-9DB610C16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739357-1980-4CA0-A0AB-8F66EDB1B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747C75-AAFE-496C-BF05-69598E326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EBFDE1-6BD7-41A7-9752-EE9326DC7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702EEC-1BCA-48A8-9E13-E109E1A35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8E8D66-CA05-455B-8EE9-E480DA7C2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499EC5-D1B2-4D41-98C3-3F2B9B947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BA28A1-BEE9-425A-93B4-70CB31825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E4B8-9217-4186-AF95-DB5A07631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058F-8AFA-4D5D-958E-5D7666078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7A39-5B8B-4B3A-AB86-A57AB469D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63ED-3036-4D24-9CE0-BB13452DC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D169-A0DB-454D-A3B6-6E4E29BDD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7BD8F-5B37-4292-AE9F-6A9220F57F32}" type="slidenum">
              <a:rPr b="0" lang="ro-RO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BED20-142B-4257-8BE8-9425E9394D3B}" type="slidenum">
              <a:rPr b="0" lang="ro-RO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19636-0148-4E82-8A9D-E28DDC06B0E9}" type="slidenum">
              <a:rPr b="0" lang="ro-RO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EE1B3-4DCB-4D03-BCA5-8C239B7BA533}" type="slidenum">
              <a:rPr b="0" lang="ro-RO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image" Target="../media/image26.jpeg"/><Relationship Id="rId8" Type="http://schemas.openxmlformats.org/officeDocument/2006/relationships/image" Target="../media/image27.png"/><Relationship Id="rId9" Type="http://schemas.openxmlformats.org/officeDocument/2006/relationships/image" Target="../media/image28.jpeg"/><Relationship Id="rId10" Type="http://schemas.openxmlformats.org/officeDocument/2006/relationships/image" Target="../media/image29.jpeg"/><Relationship Id="rId11" Type="http://schemas.openxmlformats.org/officeDocument/2006/relationships/image" Target="../media/image30.jpeg"/><Relationship Id="rId12" Type="http://schemas.openxmlformats.org/officeDocument/2006/relationships/image" Target="../media/image31.jpeg"/><Relationship Id="rId13" Type="http://schemas.openxmlformats.org/officeDocument/2006/relationships/image" Target="../media/image32.jpeg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Rectangle 2" descr=""/>
          <p:cNvPicPr/>
          <p:nvPr/>
        </p:nvPicPr>
        <p:blipFill>
          <a:blip r:embed="rId1"/>
          <a:stretch/>
        </p:blipFill>
        <p:spPr>
          <a:xfrm>
            <a:off x="401760" y="378000"/>
            <a:ext cx="8523000" cy="190800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4114800"/>
            <a:ext cx="2895480" cy="23623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ff0000"/>
                </a:solidFill>
                <a:latin typeface="Monotype Corsiva"/>
              </a:rPr>
              <a:t>FRANCE2.</a:t>
            </a: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7" name="Picture 4" descr="C:\Users\Adi\Desktop\FRANCE2-Equipe2\logo-france2.jpg"/>
          <p:cNvPicPr/>
          <p:nvPr/>
        </p:nvPicPr>
        <p:blipFill>
          <a:blip r:embed="rId2"/>
          <a:stretch/>
        </p:blipFill>
        <p:spPr>
          <a:xfrm>
            <a:off x="4952880" y="2743200"/>
            <a:ext cx="3936960" cy="39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5000" spc="-1" strike="noStrike" u="sng">
                <a:solidFill>
                  <a:srgbClr val="000000"/>
                </a:solidFill>
                <a:uFillTx/>
                <a:latin typeface="Calibri"/>
              </a:rPr>
              <a:t>Programm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ff0000"/>
                </a:solidFill>
                <a:latin typeface="Constantia"/>
              </a:rPr>
              <a:t>Documetair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ff0000"/>
                </a:solidFill>
                <a:latin typeface="Constantia"/>
              </a:rPr>
              <a:t>Series et fictio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ff0000"/>
                </a:solidFill>
                <a:latin typeface="Constantia"/>
              </a:rPr>
              <a:t>Divertissmen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ff0000"/>
                </a:solidFill>
                <a:latin typeface="Constantia"/>
              </a:rPr>
              <a:t>Jeux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ff0000"/>
                </a:solidFill>
                <a:latin typeface="Constantia"/>
              </a:rPr>
              <a:t>Spor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ff0000"/>
                </a:solidFill>
                <a:latin typeface="Constantia"/>
              </a:rPr>
              <a:t>Animateur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0" name="Picture 4" descr="C:\Users\Adi\Desktop\FRANCE2-Equipe2\documentaire.jpg"/>
          <p:cNvPicPr/>
          <p:nvPr/>
        </p:nvPicPr>
        <p:blipFill>
          <a:blip r:embed="rId1"/>
          <a:stretch/>
        </p:blipFill>
        <p:spPr>
          <a:xfrm>
            <a:off x="3882960" y="755640"/>
            <a:ext cx="2541600" cy="18223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" descr="C:\Users\Adi\Desktop\FRANCE2-Equipe2\TVD.jpg"/>
          <p:cNvPicPr/>
          <p:nvPr/>
        </p:nvPicPr>
        <p:blipFill>
          <a:blip r:embed="rId2"/>
          <a:stretch/>
        </p:blipFill>
        <p:spPr>
          <a:xfrm>
            <a:off x="3956040" y="4413240"/>
            <a:ext cx="5200560" cy="24573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6" descr="C:\Users\Adi\Desktop\FRANCE2-Equipe2\jeux.jpg"/>
          <p:cNvPicPr/>
          <p:nvPr/>
        </p:nvPicPr>
        <p:blipFill>
          <a:blip r:embed="rId3"/>
          <a:stretch/>
        </p:blipFill>
        <p:spPr>
          <a:xfrm>
            <a:off x="-85680" y="4834080"/>
            <a:ext cx="3822480" cy="234144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7" descr="C:\Users\Adi\Desktop\FRANCE2-Equipe2\sport.jpg"/>
          <p:cNvPicPr/>
          <p:nvPr/>
        </p:nvPicPr>
        <p:blipFill>
          <a:blip r:embed="rId4"/>
          <a:stretch/>
        </p:blipFill>
        <p:spPr>
          <a:xfrm>
            <a:off x="3882960" y="2584440"/>
            <a:ext cx="2627280" cy="18414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8" descr="C:\Users\Adi\Desktop\FRANCE2-Equipe2\animateur.jpg"/>
          <p:cNvPicPr/>
          <p:nvPr/>
        </p:nvPicPr>
        <p:blipFill>
          <a:blip r:embed="rId5"/>
          <a:stretch/>
        </p:blipFill>
        <p:spPr>
          <a:xfrm>
            <a:off x="6400800" y="762120"/>
            <a:ext cx="2743200" cy="37335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ff0000"/>
                </a:solidFill>
                <a:latin typeface="Calibri"/>
              </a:rPr>
              <a:t>Culture-</a:t>
            </a: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&gt;</a:t>
            </a:r>
            <a:r>
              <a:rPr b="1" lang="en-US" sz="3600" spc="-1" strike="noStrike">
                <a:solidFill>
                  <a:srgbClr val="04617b"/>
                </a:solidFill>
                <a:latin typeface="Calibri"/>
              </a:rPr>
              <a:t>Kanye West rend visite à Occupy Wall Street</a:t>
            </a:r>
            <a:br>
              <a:rPr sz="36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20680" indent="-220680">
              <a:lnSpc>
                <a:spcPct val="100000"/>
              </a:lnSpc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Monotype Corsiva"/>
              </a:rPr>
              <a:t>Le rappeur américain a fait une brève apparition lundi 10 octobre auprès des indignés américains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9" name="Picture 6" descr="C:\Users\Adi\Desktop\FRANCE2-Equipe2\paris mode.jpg"/>
          <p:cNvPicPr/>
          <p:nvPr/>
        </p:nvPicPr>
        <p:blipFill>
          <a:blip r:embed="rId1"/>
          <a:stretch/>
        </p:blipFill>
        <p:spPr>
          <a:xfrm>
            <a:off x="4572000" y="914400"/>
            <a:ext cx="4572000" cy="25146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7" descr="C:\Users\Adi\Desktop\FRANCE2-Equipe2\christian dior.jpg"/>
          <p:cNvPicPr/>
          <p:nvPr/>
        </p:nvPicPr>
        <p:blipFill>
          <a:blip r:embed="rId2"/>
          <a:stretch/>
        </p:blipFill>
        <p:spPr>
          <a:xfrm>
            <a:off x="4572000" y="3657600"/>
            <a:ext cx="45720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4617b"/>
                </a:solidFill>
                <a:uFillTx/>
                <a:latin typeface="Monotype Corsiva"/>
              </a:rPr>
              <a:t>Informations  generale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876920" y="17524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2640" indent="-24264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Monotype Corsiva"/>
              </a:rPr>
              <a:t>Kanye West est apparu en compagnie de Russell Simmons sur Zuccotti Park, au sud de Manhattan, où des centaines de personnes manifestent pacifiquement depuis plusieurs semain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Monotype Corsiva"/>
              </a:rPr>
              <a:t>West, jetsetteur, fana de mode et amateur de grosses chaînes en or, d'apporter son soutien aux manifestants du mouvement contre la finance débridé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51920" y="167652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4" name="Picture 5" descr="C:\Users\Adi\Desktop\FRANCE2-Equipe2\wall st.jpg"/>
          <p:cNvPicPr/>
          <p:nvPr/>
        </p:nvPicPr>
        <p:blipFill>
          <a:blip r:embed="rId1"/>
          <a:stretch/>
        </p:blipFill>
        <p:spPr>
          <a:xfrm>
            <a:off x="152280" y="1600200"/>
            <a:ext cx="46483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ro-RO" sz="4000" spc="-1" strike="noStrike">
                <a:solidFill>
                  <a:srgbClr val="f0aafc"/>
                </a:solidFill>
                <a:latin typeface="Calibri"/>
              </a:rPr>
              <a:t>O</a:t>
            </a:r>
            <a:r>
              <a:rPr b="0" lang="ro-RO" sz="4000" spc="-1" strike="noStrike">
                <a:solidFill>
                  <a:srgbClr val="04617b"/>
                </a:solidFill>
                <a:latin typeface="Calibri"/>
              </a:rPr>
              <a:t>M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ME</a:t>
            </a:r>
            <a:r>
              <a:rPr b="0" lang="ro-RO" sz="4000" spc="-1" strike="noStrike">
                <a:solidFill>
                  <a:srgbClr val="ffff00"/>
                </a:solidFill>
                <a:latin typeface="Calibri"/>
              </a:rPr>
              <a:t>N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o-RO" sz="40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ro-RO" sz="4000" spc="-1" strike="noStrike">
                <a:solidFill>
                  <a:srgbClr val="7cca62"/>
                </a:solidFill>
                <a:latin typeface="Calibri"/>
              </a:rPr>
              <a:t>A</a:t>
            </a:r>
            <a:r>
              <a:rPr b="0" lang="ro-RO" sz="40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ro-RO" sz="4000" spc="-1" strike="noStrike">
                <a:solidFill>
                  <a:srgbClr val="bfbfbf"/>
                </a:solidFill>
                <a:latin typeface="Calibri"/>
              </a:rPr>
              <a:t>V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o-RO" sz="40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ro-RO" sz="4000" spc="-1" strike="noStrike">
                <a:solidFill>
                  <a:srgbClr val="ffff00"/>
                </a:solidFill>
                <a:latin typeface="Calibri"/>
              </a:rPr>
              <a:t>I</a:t>
            </a:r>
            <a:r>
              <a:rPr b="0" lang="ro-RO" sz="4000" spc="-1" strike="noStrike">
                <a:solidFill>
                  <a:srgbClr val="04617b"/>
                </a:solidFill>
                <a:latin typeface="Calibri"/>
              </a:rPr>
              <a:t>E</a:t>
            </a:r>
            <a:r>
              <a:rPr b="0" lang="ro-RO" sz="4000" spc="-1" strike="noStrike">
                <a:solidFill>
                  <a:srgbClr val="ff0000"/>
                </a:solidFill>
                <a:latin typeface="Calibri"/>
              </a:rPr>
              <a:t>N</a:t>
            </a:r>
            <a:r>
              <a:rPr b="0" lang="ro-RO" sz="4000" spc="-1" strike="noStrike">
                <a:solidFill>
                  <a:srgbClr val="7cca62"/>
                </a:solidFill>
                <a:latin typeface="Calibri"/>
              </a:rPr>
              <a:t>!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r>
              <a:rPr b="0" lang="ro-RO" sz="2800" spc="-1" strike="noStrike">
                <a:solidFill>
                  <a:srgbClr val="ff0000"/>
                </a:solidFill>
                <a:latin typeface="Constantia"/>
              </a:rPr>
              <a:t>La mode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r>
              <a:rPr b="0" lang="ro-RO" sz="2800" spc="-1" strike="noStrike">
                <a:solidFill>
                  <a:srgbClr val="ff0000"/>
                </a:solidFill>
                <a:latin typeface="Constantia"/>
              </a:rPr>
              <a:t>Le corp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r>
              <a:rPr b="0" lang="ro-RO" sz="2800" spc="-1" strike="noStrike">
                <a:solidFill>
                  <a:srgbClr val="ff0000"/>
                </a:solidFill>
                <a:latin typeface="Constantia"/>
              </a:rPr>
              <a:t>Le quotidien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r>
              <a:rPr b="0" lang="ro-RO" sz="2800" spc="-1" strike="noStrike">
                <a:solidFill>
                  <a:srgbClr val="ff0000"/>
                </a:solidFill>
                <a:latin typeface="Constantia"/>
              </a:rPr>
              <a:t>Le maison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r>
              <a:rPr b="0" lang="ro-RO" sz="2800" spc="-1" strike="noStrike">
                <a:solidFill>
                  <a:srgbClr val="ff0000"/>
                </a:solidFill>
                <a:latin typeface="Constantia"/>
              </a:rPr>
              <a:t>Les loisi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8" name="Picture 5" descr="C:\Users\Adi\Desktop\FRANCE2-Equipe2\ok ok.jpg"/>
          <p:cNvPicPr/>
          <p:nvPr/>
        </p:nvPicPr>
        <p:blipFill>
          <a:blip r:embed="rId1"/>
          <a:stretch/>
        </p:blipFill>
        <p:spPr>
          <a:xfrm>
            <a:off x="152280" y="4114800"/>
            <a:ext cx="3124440" cy="2590920"/>
          </a:xfrm>
          <a:prstGeom prst="rect">
            <a:avLst/>
          </a:prstGeom>
          <a:ln cap="sq" w="127080">
            <a:solidFill>
              <a:srgbClr val="000000"/>
            </a:solidFill>
            <a:miter/>
          </a:ln>
          <a:effectLst>
            <a:outerShdw dist="50911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219" name="Picture 8" descr="C:\Users\Adi\Desktop\FRANCE2-Equipe2\comment ce va bien.jpg"/>
          <p:cNvPicPr/>
          <p:nvPr/>
        </p:nvPicPr>
        <p:blipFill>
          <a:blip r:embed="rId2"/>
          <a:stretch/>
        </p:blipFill>
        <p:spPr>
          <a:xfrm>
            <a:off x="5867280" y="1143000"/>
            <a:ext cx="3276720" cy="57150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9" descr="C:\Users\Adi\Desktop\FRANCE2-Equipe2\arton.jpg"/>
          <p:cNvPicPr/>
          <p:nvPr/>
        </p:nvPicPr>
        <p:blipFill>
          <a:blip r:embed="rId3"/>
          <a:stretch/>
        </p:blipFill>
        <p:spPr>
          <a:xfrm>
            <a:off x="3962520" y="4114800"/>
            <a:ext cx="253368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 u="sng">
                <a:solidFill>
                  <a:srgbClr val="0ab0c6"/>
                </a:solidFill>
                <a:uFillTx/>
                <a:latin typeface="Calibri"/>
              </a:rPr>
              <a:t>Les glaciers pyrénéens fondent à vue d'oeil</a:t>
            </a:r>
            <a:br>
              <a:rPr sz="36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7030a0"/>
                </a:solidFill>
                <a:latin typeface="Constantia"/>
              </a:rPr>
              <a:t>Dans le article il se parle sur le glaciers de Mountage p</a:t>
            </a:r>
            <a:r>
              <a:rPr b="1" lang="fr-FR" sz="2800" spc="-1" strike="noStrike">
                <a:solidFill>
                  <a:srgbClr val="7030a0"/>
                </a:solidFill>
                <a:latin typeface="Constantia"/>
              </a:rPr>
              <a:t>yrénéens </a:t>
            </a:r>
            <a:r>
              <a:rPr b="1" lang="ro-RO" sz="2800" spc="-1" strike="noStrike">
                <a:solidFill>
                  <a:srgbClr val="7030a0"/>
                </a:solidFill>
                <a:latin typeface="Constantia"/>
              </a:rPr>
              <a:t> qui fondent  a cause de </a:t>
            </a:r>
            <a:r>
              <a:rPr b="0" lang="ro-RO" sz="2800" spc="-1" strike="noStrike">
                <a:solidFill>
                  <a:srgbClr val="7030a0"/>
                </a:solidFill>
                <a:latin typeface="Constantia"/>
              </a:rPr>
              <a:t>réchauffement climatique .Les glaciers ont perdu 80%  de leur surface.Pierre Rene voit leur disaparation dans les decennies a venir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4" name="Picture 5" descr="C:\Users\Adi\Desktop\FRANCE2-Equipe2\image_70661067.jpg"/>
          <p:cNvPicPr/>
          <p:nvPr/>
        </p:nvPicPr>
        <p:blipFill>
          <a:blip r:embed="rId1"/>
          <a:stretch/>
        </p:blipFill>
        <p:spPr>
          <a:xfrm>
            <a:off x="0" y="3581280"/>
            <a:ext cx="914400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De ce postul tv respectiv?</a:t>
            </a:r>
            <a:br>
              <a:rPr sz="36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100000"/>
              </a:lnSpc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ff0000"/>
                </a:solidFill>
                <a:latin typeface="Monotype Corsiva"/>
              </a:rPr>
              <a:t>Pour les eleves,un post TV est importante pour leur lecture.Ils peut apprendre a lire et a  parler</a:t>
            </a:r>
            <a:r>
              <a:rPr b="0" i="1" lang="ro-RO" sz="4400" spc="-1" strike="noStrike">
                <a:solidFill>
                  <a:srgbClr val="ff0000"/>
                </a:solidFill>
                <a:latin typeface="Monotype Corsiva"/>
              </a:rPr>
              <a:t> on </a:t>
            </a:r>
            <a:r>
              <a:rPr b="0" lang="ro-RO" sz="4400" spc="-1" strike="noStrike">
                <a:solidFill>
                  <a:srgbClr val="ff0000"/>
                </a:solidFill>
                <a:latin typeface="Monotype Corsiva"/>
              </a:rPr>
              <a:t>Français.Un chaîne TV informe  la population avec de vrai nouvelles...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7200" spc="-1" strike="noStrike">
                <a:solidFill>
                  <a:srgbClr val="ff0000"/>
                </a:solidFill>
                <a:latin typeface="Monotype Corsiva"/>
              </a:rPr>
              <a:t>France en miniature</a:t>
            </a:r>
            <a:endParaRPr b="0" lang="en-US" sz="7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9" name="Picture 2" descr="C:\Users\Adi\Desktop\FRANCE2-Equipe2\vin.jpg"/>
          <p:cNvPicPr/>
          <p:nvPr/>
        </p:nvPicPr>
        <p:blipFill>
          <a:blip r:embed="rId1"/>
          <a:stretch/>
        </p:blipFill>
        <p:spPr>
          <a:xfrm>
            <a:off x="7126200" y="-6480"/>
            <a:ext cx="2024280" cy="22860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3" descr="C:\Users\Adi\Desktop\FRANCE2-Equipe2\mont blanc.jpg"/>
          <p:cNvPicPr/>
          <p:nvPr/>
        </p:nvPicPr>
        <p:blipFill>
          <a:blip r:embed="rId2"/>
          <a:stretch/>
        </p:blipFill>
        <p:spPr>
          <a:xfrm>
            <a:off x="7400880" y="3733920"/>
            <a:ext cx="1743120" cy="31240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231" name="Picture 4" descr="C:\Users\Adi\Desktop\FRANCE2-Equipe2\jjlkj.jpg"/>
          <p:cNvPicPr/>
          <p:nvPr/>
        </p:nvPicPr>
        <p:blipFill>
          <a:blip r:embed="rId3"/>
          <a:stretch/>
        </p:blipFill>
        <p:spPr>
          <a:xfrm>
            <a:off x="1752480" y="5029200"/>
            <a:ext cx="2743200" cy="18288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232" name="Picture 5" descr="C:\Users\Adi\Desktop\FRANCE2-Equipe2\jhp.jpg"/>
          <p:cNvPicPr/>
          <p:nvPr/>
        </p:nvPicPr>
        <p:blipFill>
          <a:blip r:embed="rId4"/>
          <a:stretch/>
        </p:blipFill>
        <p:spPr>
          <a:xfrm>
            <a:off x="0" y="4497480"/>
            <a:ext cx="1981080" cy="23605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233" name="Picture 6" descr="C:\Users\Adi\Desktop\FRANCE2-Equipe2\index.jpg"/>
          <p:cNvPicPr/>
          <p:nvPr/>
        </p:nvPicPr>
        <p:blipFill>
          <a:blip r:embed="rId5"/>
          <a:stretch/>
        </p:blipFill>
        <p:spPr>
          <a:xfrm>
            <a:off x="0" y="1600200"/>
            <a:ext cx="2467080" cy="18478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234" name="Picture 7" descr="C:\Users\Adi\Desktop\FRANCE2-Equipe2\ihjroe'.jpg"/>
          <p:cNvPicPr/>
          <p:nvPr/>
        </p:nvPicPr>
        <p:blipFill>
          <a:blip r:embed="rId6"/>
          <a:stretch/>
        </p:blipFill>
        <p:spPr>
          <a:xfrm>
            <a:off x="4572000" y="5295960"/>
            <a:ext cx="2819520" cy="15620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235" name="Picture 8" descr="C:\Users\Adi\Desktop\FRANCE2-Equipe2\harte.jpg"/>
          <p:cNvPicPr/>
          <p:nvPr/>
        </p:nvPicPr>
        <p:blipFill>
          <a:blip r:embed="rId7"/>
          <a:stretch/>
        </p:blipFill>
        <p:spPr>
          <a:xfrm>
            <a:off x="1447920" y="3429000"/>
            <a:ext cx="1711080" cy="16765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236" name="Picture 9" descr="C:\Users\Adi\Desktop\FRANCE2-Equipe2\frnaceeee.jpg"/>
          <p:cNvPicPr/>
          <p:nvPr/>
        </p:nvPicPr>
        <p:blipFill>
          <a:blip r:embed="rId8"/>
          <a:stretch/>
        </p:blipFill>
        <p:spPr>
          <a:xfrm>
            <a:off x="3041640" y="3121200"/>
            <a:ext cx="1920960" cy="221904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0" descr="C:\Users\Adi\Desktop\FRANCE2-Equipe2\Franta.jpg"/>
          <p:cNvPicPr/>
          <p:nvPr/>
        </p:nvPicPr>
        <p:blipFill>
          <a:blip r:embed="rId9"/>
          <a:stretch/>
        </p:blipFill>
        <p:spPr>
          <a:xfrm>
            <a:off x="6410160" y="1828800"/>
            <a:ext cx="2733840" cy="18194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238" name="Picture 11" descr="C:\Users\Adi\Desktop\FRANCE2-Equipe2\disneyland.jpg"/>
          <p:cNvPicPr/>
          <p:nvPr/>
        </p:nvPicPr>
        <p:blipFill>
          <a:blip r:embed="rId10"/>
          <a:stretch/>
        </p:blipFill>
        <p:spPr>
          <a:xfrm>
            <a:off x="2362320" y="1600200"/>
            <a:ext cx="2466720" cy="18478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239" name="Picture 12" descr="C:\Users\Adi\Desktop\FRANCE2-Equipe2\catredala.jpg"/>
          <p:cNvPicPr/>
          <p:nvPr/>
        </p:nvPicPr>
        <p:blipFill>
          <a:blip r:embed="rId11"/>
          <a:stretch/>
        </p:blipFill>
        <p:spPr>
          <a:xfrm>
            <a:off x="0" y="320040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13" descr="C:\Users\Adi\Desktop\FRANCE2-Equipe2\biblioteque nationale.jpg"/>
          <p:cNvPicPr/>
          <p:nvPr/>
        </p:nvPicPr>
        <p:blipFill>
          <a:blip r:embed="rId12"/>
          <a:stretch/>
        </p:blipFill>
        <p:spPr>
          <a:xfrm>
            <a:off x="4800600" y="1600200"/>
            <a:ext cx="1676520" cy="18194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241" name="Picture 14" descr="C:\Users\Adi\Desktop\FRANCE2-Equipe2\AIR FRANCE.jpg"/>
          <p:cNvPicPr/>
          <p:nvPr/>
        </p:nvPicPr>
        <p:blipFill>
          <a:blip r:embed="rId13"/>
          <a:stretch/>
        </p:blipFill>
        <p:spPr>
          <a:xfrm>
            <a:off x="4800600" y="3429000"/>
            <a:ext cx="2619360" cy="19620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i</dc:creator>
  <dc:description/>
  <dc:language>en-US</dc:language>
  <cp:lastModifiedBy>user</cp:lastModifiedBy>
  <dcterms:modified xsi:type="dcterms:W3CDTF">2011-10-25T19:08:45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